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17.png" ContentType="image/png"/>
  <Override PartName="/ppt/media/image2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5.jpeg" ContentType="image/jpeg"/>
  <Override PartName="/ppt/media/image20.wmf" ContentType="image/x-wmf"/>
  <Override PartName="/ppt/media/image18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5 april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946240" y="6381720"/>
            <a:ext cx="3302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929280" y="6324480"/>
            <a:ext cx="206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0226-DC46-44FA-9615-8BC381972B00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5 april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68480" y="6453360"/>
            <a:ext cx="3302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93080" y="152280"/>
            <a:ext cx="1670040" cy="65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eant4.com/hadronics/GHAD/HomePage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16000" y="270828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roton On Targe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G4 v7.0 exercis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ysical case: see M. Bonesini et al. 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hep-ph/0101163 published in EPJC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(24 GeV/c)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B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Eichten et al. NP B44(92)333. 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2859" t="48487" r="6618" b="3696"/>
          <a:stretch/>
        </p:blipFill>
        <p:spPr>
          <a:xfrm>
            <a:off x="395280" y="1268280"/>
            <a:ext cx="4896000" cy="511344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651640" y="1844640"/>
            <a:ext cx="3017520" cy="4152960"/>
            <a:chOff x="5651640" y="1844640"/>
            <a:chExt cx="3017520" cy="415296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5651640" y="1844640"/>
              <a:ext cx="3017520" cy="41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588000" y="2492280"/>
              <a:ext cx="2016360" cy="2016360"/>
            </a:xfrm>
            <a:custGeom>
              <a:avLst/>
              <a:gdLst/>
              <a:ahLst/>
              <a:rect l="l" t="t" r="r" b="b"/>
              <a:pathLst>
                <a:path w="1270" h="1270">
                  <a:moveTo>
                    <a:pt x="0" y="0"/>
                  </a:moveTo>
                  <a:cubicBezTo>
                    <a:pt x="38" y="26"/>
                    <a:pt x="158" y="108"/>
                    <a:pt x="226" y="154"/>
                  </a:cubicBezTo>
                  <a:cubicBezTo>
                    <a:pt x="294" y="200"/>
                    <a:pt x="330" y="224"/>
                    <a:pt x="406" y="274"/>
                  </a:cubicBezTo>
                  <a:cubicBezTo>
                    <a:pt x="482" y="324"/>
                    <a:pt x="589" y="379"/>
                    <a:pt x="680" y="454"/>
                  </a:cubicBezTo>
                  <a:cubicBezTo>
                    <a:pt x="771" y="529"/>
                    <a:pt x="877" y="635"/>
                    <a:pt x="953" y="726"/>
                  </a:cubicBezTo>
                  <a:cubicBezTo>
                    <a:pt x="1029" y="817"/>
                    <a:pt x="1089" y="915"/>
                    <a:pt x="1134" y="998"/>
                  </a:cubicBezTo>
                  <a:cubicBezTo>
                    <a:pt x="1179" y="1081"/>
                    <a:pt x="1202" y="1180"/>
                    <a:pt x="1225" y="1225"/>
                  </a:cubicBezTo>
                  <a:cubicBezTo>
                    <a:pt x="1248" y="1270"/>
                    <a:pt x="1259" y="1270"/>
                    <a:pt x="1270" y="127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59560" y="2522520"/>
              <a:ext cx="1911240" cy="2621160"/>
            </a:xfrm>
            <a:custGeom>
              <a:avLst/>
              <a:gdLst/>
              <a:ahLst/>
              <a:rect l="l" t="t" r="r" b="b"/>
              <a:pathLst>
                <a:path w="1204" h="1651">
                  <a:moveTo>
                    <a:pt x="154" y="117"/>
                  </a:moveTo>
                  <a:cubicBezTo>
                    <a:pt x="133" y="103"/>
                    <a:pt x="0" y="0"/>
                    <a:pt x="28" y="31"/>
                  </a:cubicBezTo>
                  <a:cubicBezTo>
                    <a:pt x="56" y="62"/>
                    <a:pt x="245" y="230"/>
                    <a:pt x="320" y="303"/>
                  </a:cubicBezTo>
                  <a:cubicBezTo>
                    <a:pt x="395" y="376"/>
                    <a:pt x="419" y="398"/>
                    <a:pt x="480" y="467"/>
                  </a:cubicBezTo>
                  <a:cubicBezTo>
                    <a:pt x="541" y="536"/>
                    <a:pt x="620" y="632"/>
                    <a:pt x="688" y="719"/>
                  </a:cubicBezTo>
                  <a:cubicBezTo>
                    <a:pt x="756" y="806"/>
                    <a:pt x="831" y="901"/>
                    <a:pt x="888" y="991"/>
                  </a:cubicBezTo>
                  <a:cubicBezTo>
                    <a:pt x="945" y="1081"/>
                    <a:pt x="991" y="1184"/>
                    <a:pt x="1028" y="1259"/>
                  </a:cubicBezTo>
                  <a:cubicBezTo>
                    <a:pt x="1065" y="1334"/>
                    <a:pt x="1091" y="1394"/>
                    <a:pt x="1112" y="1443"/>
                  </a:cubicBezTo>
                  <a:cubicBezTo>
                    <a:pt x="1133" y="1492"/>
                    <a:pt x="1141" y="1516"/>
                    <a:pt x="1156" y="1551"/>
                  </a:cubicBezTo>
                  <a:cubicBezTo>
                    <a:pt x="1171" y="1586"/>
                    <a:pt x="1194" y="1630"/>
                    <a:pt x="1204" y="165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88000" y="2637000"/>
              <a:ext cx="1711440" cy="2849400"/>
            </a:xfrm>
            <a:custGeom>
              <a:avLst/>
              <a:gdLst/>
              <a:ahLst/>
              <a:rect l="l" t="t" r="r" b="b"/>
              <a:pathLst>
                <a:path w="1078" h="1795">
                  <a:moveTo>
                    <a:pt x="0" y="0"/>
                  </a:moveTo>
                  <a:cubicBezTo>
                    <a:pt x="28" y="37"/>
                    <a:pt x="106" y="149"/>
                    <a:pt x="166" y="223"/>
                  </a:cubicBezTo>
                  <a:cubicBezTo>
                    <a:pt x="226" y="297"/>
                    <a:pt x="314" y="389"/>
                    <a:pt x="358" y="447"/>
                  </a:cubicBezTo>
                  <a:cubicBezTo>
                    <a:pt x="402" y="505"/>
                    <a:pt x="395" y="515"/>
                    <a:pt x="430" y="571"/>
                  </a:cubicBezTo>
                  <a:cubicBezTo>
                    <a:pt x="465" y="627"/>
                    <a:pt x="515" y="695"/>
                    <a:pt x="570" y="783"/>
                  </a:cubicBezTo>
                  <a:cubicBezTo>
                    <a:pt x="625" y="871"/>
                    <a:pt x="701" y="996"/>
                    <a:pt x="758" y="1099"/>
                  </a:cubicBezTo>
                  <a:cubicBezTo>
                    <a:pt x="815" y="1202"/>
                    <a:pt x="872" y="1314"/>
                    <a:pt x="914" y="1403"/>
                  </a:cubicBezTo>
                  <a:cubicBezTo>
                    <a:pt x="956" y="1492"/>
                    <a:pt x="983" y="1566"/>
                    <a:pt x="1010" y="1631"/>
                  </a:cubicBezTo>
                  <a:cubicBezTo>
                    <a:pt x="1037" y="1696"/>
                    <a:pt x="1064" y="1761"/>
                    <a:pt x="1078" y="179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88000" y="2739960"/>
              <a:ext cx="1343160" cy="2873520"/>
            </a:xfrm>
            <a:custGeom>
              <a:avLst/>
              <a:gdLst/>
              <a:ahLst/>
              <a:rect l="l" t="t" r="r" b="b"/>
              <a:pathLst>
                <a:path w="846" h="1810">
                  <a:moveTo>
                    <a:pt x="0" y="0"/>
                  </a:moveTo>
                  <a:cubicBezTo>
                    <a:pt x="28" y="51"/>
                    <a:pt x="113" y="206"/>
                    <a:pt x="166" y="306"/>
                  </a:cubicBezTo>
                  <a:cubicBezTo>
                    <a:pt x="219" y="406"/>
                    <a:pt x="280" y="521"/>
                    <a:pt x="318" y="598"/>
                  </a:cubicBezTo>
                  <a:cubicBezTo>
                    <a:pt x="356" y="675"/>
                    <a:pt x="360" y="696"/>
                    <a:pt x="394" y="766"/>
                  </a:cubicBezTo>
                  <a:cubicBezTo>
                    <a:pt x="428" y="836"/>
                    <a:pt x="492" y="948"/>
                    <a:pt x="522" y="1018"/>
                  </a:cubicBezTo>
                  <a:cubicBezTo>
                    <a:pt x="552" y="1088"/>
                    <a:pt x="546" y="1117"/>
                    <a:pt x="574" y="1186"/>
                  </a:cubicBezTo>
                  <a:cubicBezTo>
                    <a:pt x="602" y="1255"/>
                    <a:pt x="661" y="1363"/>
                    <a:pt x="690" y="1430"/>
                  </a:cubicBezTo>
                  <a:cubicBezTo>
                    <a:pt x="719" y="1497"/>
                    <a:pt x="733" y="1541"/>
                    <a:pt x="750" y="1586"/>
                  </a:cubicBezTo>
                  <a:cubicBezTo>
                    <a:pt x="767" y="1631"/>
                    <a:pt x="779" y="1674"/>
                    <a:pt x="790" y="1698"/>
                  </a:cubicBezTo>
                  <a:cubicBezTo>
                    <a:pt x="801" y="1722"/>
                    <a:pt x="805" y="1711"/>
                    <a:pt x="814" y="1730"/>
                  </a:cubicBezTo>
                  <a:cubicBezTo>
                    <a:pt x="823" y="1749"/>
                    <a:pt x="839" y="1793"/>
                    <a:pt x="846" y="181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531840" y="1413000"/>
            <a:ext cx="1713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+ B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41560" y="6021360"/>
            <a:ext cx="2160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4QGSP + B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2920" y="2060640"/>
            <a:ext cx="584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 baseline="30000">
                <a:solidFill>
                  <a:srgbClr val="0066ff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(24 GeV/c)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e (suite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6560" y="2239920"/>
            <a:ext cx="4105440" cy="3060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986280" cy="3022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219640" y="3929040"/>
            <a:ext cx="3600360" cy="2771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68280" y="1484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4QGSP + BM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eant4 Hadronic Physic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5856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Comic Sans MS"/>
              </a:rPr>
              <a:t>Binary cascade: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oncluded inclusion of 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pion projectiles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nd light ion reaction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mproved transition to pre-equilibrium mod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Comic Sans MS"/>
              </a:rPr>
              <a:t>Bertini Cascade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: extended up to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0 GeV 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(thanks to A Heikinen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Comic Sans MS"/>
              </a:rPr>
              <a:t>Scattering term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xtended for nucleon induced reactions to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8 GeV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cluded s-wave absorptio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ion induced reactions (up to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.5 GeV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New packages and models: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99"/>
                </a:solidFill>
                <a:latin typeface="Comic Sans MS"/>
              </a:rPr>
              <a:t>Abrasion/Ablation &amp; EM dissociation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r ions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99"/>
                </a:solidFill>
                <a:latin typeface="Comic Sans MS"/>
              </a:rPr>
              <a:t>Coherent elastic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model for high energy elastic scatter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Cross sections: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Removed discontinuities in pion scattering data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x in high energy p-H cross-sections (G3 legacy bug)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Particle ID after interaction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Optional kill primaries – can be steered from user code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5149800" y="6093000"/>
            <a:ext cx="358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lide from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John Apostolak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ans-Peterr Weilli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167652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K. Nakai at al., PRL 44, 1446 (198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D. Ashery et al, PR C23, 2173 (199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7339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32767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 +/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3429000"/>
            <a:ext cx="2286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3429000"/>
            <a:ext cx="22860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2819520"/>
            <a:ext cx="152280" cy="19047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2666880"/>
            <a:ext cx="228600" cy="60984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3200400"/>
            <a:ext cx="228600" cy="60948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3886200"/>
            <a:ext cx="228600" cy="60948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4495680"/>
            <a:ext cx="228600" cy="60984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2286000"/>
            <a:ext cx="228600" cy="60948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952880"/>
            <a:ext cx="228600" cy="609840"/>
          </a:xfrm>
          <a:prstGeom prst="ellipse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914400" y="419076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990720" y="4190760"/>
            <a:ext cx="1218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51814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 target (Al, Cu, Au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43200" y="44953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029200" y="449532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54864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80060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am monitoring coun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Pion absorption – experiment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5484960" y="289548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akai – look for gammas emitted after pion absor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hery – look for transmitted (not absorbed) p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4495680"/>
            <a:ext cx="3198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eams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ergies betw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3 – 315 M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914400"/>
            <a:ext cx="5334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69696"/>
                </a:solidFill>
                <a:uFillTx/>
                <a:latin typeface="Comic Sans MS"/>
              </a:rPr>
              <a:t>Witold Pokorski CERN-LCGAPP-2004-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00840" y="6021360"/>
            <a:ext cx="55620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st LCG Review Alberto Ribon, CERN/PH/S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Absorption Xsection for π</a:t>
            </a:r>
            <a:r>
              <a:rPr b="0" lang="en-GB" sz="28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267080" cy="2664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48320" y="838080"/>
            <a:ext cx="4305240" cy="2687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04920" y="3552840"/>
            <a:ext cx="4267080" cy="2663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648320" y="3809880"/>
            <a:ext cx="42670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ame remarks as for pi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r heavy material (Au) the shape of the QGSP_BERT quite diffe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G4: best agreement for ‘medium-weight’ mate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Hadronic interactions in ATLAS pixel test-beam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207200" cy="2998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04920" y="1752480"/>
            <a:ext cx="44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80 GeV/c nomina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bea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2120" y="4724280"/>
            <a:ext cx="80899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4952880"/>
            <a:ext cx="73915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ant4 Geometry. Use the same Geometry also with Fluk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FLUG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terface between the Transportation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ysics of Fluka and Geant4 Navigation of the Geometry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990720"/>
            <a:ext cx="5334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69696"/>
                </a:solidFill>
                <a:uFillTx/>
                <a:latin typeface="Comic Sans MS"/>
              </a:rPr>
              <a:t>Alberto Ribon  CERN-LCGAPP-2004-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3520" y="475920"/>
            <a:ext cx="6853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Ratio max Eloss / total Eloss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95400" y="0"/>
            <a:ext cx="8020080" cy="6510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467480" y="2133720"/>
            <a:ext cx="167508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GSP is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ll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d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6960" y="380880"/>
            <a:ext cx="6973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uster size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240" y="380880"/>
            <a:ext cx="7665840" cy="62247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088040" y="152280"/>
            <a:ext cx="205596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GSP produ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o narro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us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UKA, LH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QGSC 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go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reement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3505320"/>
            <a:ext cx="205596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conclus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UKA, Geant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in reason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od agre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the dat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s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servables c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 impro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92280" y="0"/>
            <a:ext cx="71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MS longitudinal shower profile in HCAL for 100 GeV p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8400" cy="762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5257800" cy="3154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600200" y="3581280"/>
            <a:ext cx="533412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r my application???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s a blind user, I have also tried QGSP_XYZ flavours included in the physics_lists/hadronic directory: the results are the same as QGSP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except QGSP_HP which seems not to be used for this use case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 also tried QGSC but the results are worse. 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goal: from F. Pietropaolo SL seminar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1285920"/>
            <a:ext cx="8640720" cy="4968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57920" y="6093000"/>
            <a:ext cx="21999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Reproduce th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What Nex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iscussion engaged with H.P Weillich as soon as he will get a stable position;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urrently, contact with M. Brooks and Walaron from RAL who are doing some tests using MARS and G4 in the context of </a:t>
            </a:r>
            <a:r>
              <a:rPr b="0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production in p(2GeV/c – 120GeV/c) + Tantalum target (see last BENE week)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Two students 6 weeks june/july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924840" y="1821960"/>
            <a:ext cx="6671520" cy="3853800"/>
            <a:chOff x="924840" y="1821960"/>
            <a:chExt cx="6671520" cy="3853800"/>
          </a:xfrm>
        </p:grpSpPr>
        <p:grpSp>
          <p:nvGrpSpPr>
            <p:cNvPr id="90" name=""/>
            <p:cNvGrpSpPr/>
            <p:nvPr/>
          </p:nvGrpSpPr>
          <p:grpSpPr>
            <a:xfrm>
              <a:off x="924840" y="1821960"/>
              <a:ext cx="6671520" cy="3853800"/>
              <a:chOff x="924840" y="1821960"/>
              <a:chExt cx="6671520" cy="3853800"/>
            </a:xfrm>
          </p:grpSpPr>
          <p:pic>
            <p:nvPicPr>
              <p:cNvPr id="91" name="" descr=""/>
              <p:cNvPicPr/>
              <p:nvPr/>
            </p:nvPicPr>
            <p:blipFill>
              <a:blip r:embed="rId1"/>
              <a:srcRect l="4260" t="17657" r="1767" b="8688"/>
              <a:stretch/>
            </p:blipFill>
            <p:spPr>
              <a:xfrm>
                <a:off x="1187280" y="2205000"/>
                <a:ext cx="6337440" cy="331164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sp>
            <p:nvSpPr>
              <p:cNvPr id="92" name=""/>
              <p:cNvSpPr/>
              <p:nvPr/>
            </p:nvSpPr>
            <p:spPr>
              <a:xfrm rot="20398200">
                <a:off x="4572360" y="4870080"/>
                <a:ext cx="244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160 mm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5651640" y="1821960"/>
                <a:ext cx="1944720" cy="1751400"/>
                <a:chOff x="5651640" y="1821960"/>
                <a:chExt cx="1944720" cy="175140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651640" y="2205000"/>
                  <a:ext cx="1944720" cy="136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rot="2173800">
                  <a:off x="5861880" y="2293560"/>
                  <a:ext cx="1727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100 m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924840" y="4437000"/>
                <a:ext cx="983160" cy="398880"/>
                <a:chOff x="924840" y="4437000"/>
                <a:chExt cx="983160" cy="3988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924840" y="4437000"/>
                  <a:ext cx="867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2 mm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908000" y="458136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1466640" y="1952640"/>
              <a:ext cx="1689480" cy="1044720"/>
              <a:chOff x="1466640" y="1952640"/>
              <a:chExt cx="1689480" cy="1044720"/>
            </a:xfrm>
          </p:grpSpPr>
          <p:sp>
            <p:nvSpPr>
              <p:cNvPr id="100" name=""/>
              <p:cNvSpPr/>
              <p:nvPr/>
            </p:nvSpPr>
            <p:spPr>
              <a:xfrm>
                <a:off x="1466640" y="1952640"/>
                <a:ext cx="168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P (400GeV/c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11280" y="2494080"/>
                <a:ext cx="72072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e target &amp;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492360" y="4005360"/>
            <a:ext cx="3961080" cy="151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7520" y="292428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Typical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72520" y="350028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 Tar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09720" y="12682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penScientist viz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10120" y="5589720"/>
            <a:ext cx="662868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QGSP physics list (cf. Hans-Peter Wellis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http://www.geant4.com/hadronics/GHAD/HomePag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Analysis (simple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un N</a:t>
            </a:r>
            <a:r>
              <a:rPr b="0" lang="en-GB" sz="2800" spc="-1" strike="noStrike" baseline="-25000">
                <a:solidFill>
                  <a:srgbClr val="003399"/>
                </a:solidFill>
                <a:latin typeface="Comic Sans MS"/>
              </a:rPr>
              <a:t>pot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=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protons mono-energetic and pencil-like beam on targe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egister </a:t>
            </a:r>
            <a:r>
              <a:rPr b="0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±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K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±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particles that exit the targe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Compute the production cross-section: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58920" y="4392720"/>
                <a:ext cx="684036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σ</m:t>
                        </m:r>
                      </m:num>
                      <m:den>
                        <m:r>
                          <m:t xml:space="preserve">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t</m:t>
                            </m:r>
                          </m:sub>
                        </m:sSub>
                        <m:r>
                          <m:t xml:space="preserve">ρ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u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780560" y="3502080"/>
            <a:ext cx="200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sume symmet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ound the beam ax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71640" y="4076640"/>
            <a:ext cx="50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6960" y="5853240"/>
            <a:ext cx="5718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eryllium: A = 9g/mol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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g/c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= 6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mo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040" y="6284880"/>
            <a:ext cx="71208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equ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(L=100mm) = 82mm with f(L) Eq.7 Ambrosini et al. CERN-EP/99-1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4437000"/>
            <a:ext cx="1584360" cy="1297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995280" y="5516640"/>
            <a:ext cx="36036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27160" y="3621240"/>
            <a:ext cx="2320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umber of particles 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in and j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b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0400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6871320" y="4504320"/>
            <a:ext cx="81000" cy="2520720"/>
          </a:xfrm>
          <a:custGeom>
            <a:avLst/>
            <a:gdLst>
              <a:gd name="textAreaLeft" fmla="*/ 0 w 81000"/>
              <a:gd name="textAreaRight" fmla="*/ 29160 w 8100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55800" y="573408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n width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Results (1/4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6979320" y="1952640"/>
            <a:ext cx="155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B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4920" y="1341360"/>
            <a:ext cx="6934320" cy="504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18480" y="3573360"/>
            <a:ext cx="3088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dots are from Tab. 1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. Bonesini et 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Results (2/4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9720" y="1171440"/>
            <a:ext cx="753264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Results (3/4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8198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Results (4/4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43000" y="11653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M. Bonesini et al. parameterization (BMPT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4145" t="0" r="0" b="2870"/>
          <a:stretch/>
        </p:blipFill>
        <p:spPr>
          <a:xfrm>
            <a:off x="539640" y="1341360"/>
            <a:ext cx="7488360" cy="2089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4319640" cy="1314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826920" y="5157720"/>
            <a:ext cx="7850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meters fit on SPY &amp; Na20 data and then allow one to extrapolate to other use cases: diff. proton energy, diff. target mater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30280" y="2924280"/>
            <a:ext cx="11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K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34920" y="4149720"/>
            <a:ext cx="20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, K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/K</a:t>
            </a:r>
            <a:r>
              <a:rPr b="0" lang="en-GB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41400" y="3500280"/>
            <a:ext cx="156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x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~ p/p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Comic Sans MS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9:40:46Z</dcterms:created>
  <dc:creator>J.E Campagne</dc:creator>
  <dc:description/>
  <dc:language>en-US</dc:language>
  <cp:lastModifiedBy>J.E Campagne</cp:lastModifiedBy>
  <dcterms:modified xsi:type="dcterms:W3CDTF">2005-04-01T13:33:39Z</dcterms:modified>
  <cp:revision>21</cp:revision>
  <dc:subject/>
  <dc:title>pBe (400GeV/c)</dc:title>
</cp:coreProperties>
</file>